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2.jpeg" ContentType="image/jpeg"/>
  <Override PartName="/ppt/media/image10.jpeg" ContentType="image/jpeg"/>
  <Override PartName="/ppt/media/image29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F8D14-93AC-436F-81FA-34562115C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64510-9283-4F7E-8A73-6FA9E3EFB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4591E-628D-44AF-BA24-ACCC2229A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E771D-0B65-4896-AC82-4134C6771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0753-FA8B-493A-B6FA-968A4C08B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BAC7F-E413-44DF-8DCE-A5FEEC1B4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A0632-14D3-4071-96BC-02B169D9F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47F67-1EDF-4F7C-BC56-071F3B486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04BA0-1913-4376-9D2C-79029EEFB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57D5E-BC1E-4F61-AE54-C88F7BAAE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30F42-0331-43E6-A7C3-4B735295F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B185-6085-4279-AE52-613D96216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56C2D-4495-49DB-9014-3BAD1A289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AE3D5-04EB-4A6A-81E5-533D8814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794B9-DD46-42A7-9012-1149BE5E3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36267-BC98-49EE-A0A9-F5E4AE9C08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27B30-BFEB-4293-9DCF-D8EB6CD52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F9C64-A4DB-4ADC-B97D-407B8A314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69F3E-4978-4190-B35A-EF1BBECD2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132B72-30CE-42F1-8B9D-8D2B6BE3B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98BBA5-04FA-41C3-89E5-246E582C0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5B35CA-36C1-472D-A2CF-B988B7D5A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EAFC-49F1-4389-AF38-DA106D84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A4BF1-A93E-4AFC-99BB-4FE9E0D3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9A657-18F4-474D-ACF6-B2C15D431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6FD69-1ACF-4AAB-9C4B-5364C5770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813D7-3185-4217-B64A-E03655B8C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42BE1E-FA8F-46E7-A7D2-119B2C8DA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C41787-BB48-44DB-B92D-2290379C2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C2B97-CC15-4268-B4B2-1ED2372FB7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EE5A-5745-472B-A2F8-8067DE972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1A3E8-8B02-4E10-8851-450E709C0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A51C-CA4F-446A-A3BF-94728B64A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00AB-DFF7-4CC4-8F27-6CD3920E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8C3BC-2EF8-4FA7-B899-0E30FD75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618C-708F-4445-BC91-4D5B3AE88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81134-FE8E-43E4-B5B2-D25276ED0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4573-1FEA-4EB8-A9FC-F88F85606E5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50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9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60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7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68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76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77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80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81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2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83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91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DD59-EA9B-4536-A14B-727547A743E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4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8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3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44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48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1258920" y="2349360"/>
            <a:ext cx="5977080" cy="215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Сахарный дтабет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пробле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Рацион питания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тказ от употребления сахар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потребление большого количества углевод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изкое содержание белка в диет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тказ от кофе и курения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потребление сырых продуктов, в особенности лука и чесно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Определ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Это эндокринно-обменное заболевание в основе которого лежит абсолютная или относительная инсулиновая недостаточность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2 вида диабет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1 тип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ювенильный (юношеский).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нсулинозависимый – связан с поражением поджелудочной железы инфекцией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mic Sans MS"/>
              </a:rPr>
              <a:t>2 тип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– взрослый диабет.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Инсулиннезависимый – у людей старше 40 лет. Обычно связан с избыточным весом и малоподвижным образом жизни. Доля - 85% всех больных диабет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Причины заболев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Наследственная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неполноценность островкового аппарата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овреждени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поджелудочной железы опухолью, инфекционными заболеваниями (паротит, краснуха, грипп);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Провоцирующие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факторы: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Переедание, злоупотребление сладостью,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Острые и повторные стрессовые воздействия в виде нервных перенапряжений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лидипсия (неестественная жажда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лиурия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лифагия (чрезмерный аппетит)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Потеря вес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достаток энерг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асположенность к инфекц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Слабость, снижение работоспособност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Зуд и сухость кож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Катаракты, риниты, гастриты с пониженной кислотностью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Симптомы заболева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Осложнени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Гипогликемия – потоотделение, ком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Атеросклероз коронарных и периферических сосудов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Ретинопатия (поражение сетчатки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фропатия – почечная недостаточность (встречается у половины больных 1-ым типом)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ейропатия – дистальная, симметричная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Нарушение белкового, жирового, минерального и витаминного обмена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Диабет 2-го типа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Факторы риска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аследственност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жирени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Пол (женский)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Заболевание поджелудочной железы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Рацион питания с преобладанием насыщенных жиров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Как контролировать сахар в кров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Употребление отрубей (в них содержится хром, который помогает входить сахару в клетку и усваиваться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Исключение употребления жирного мяса и животных жиров(т.к. препятствуют работе рецепторов)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Не переедать, не перекусыва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Отказаться от обильного ужин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Решение проблемы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онтроль за весом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Умеренная физическая активность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Сбалансированный образ жизни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собый уход за нижними конечностями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02:30:10Z</dcterms:created>
  <dc:creator>cb</dc:creator>
  <dc:description/>
  <dc:language>en-US</dc:language>
  <cp:lastModifiedBy>cb</cp:lastModifiedBy>
  <dcterms:modified xsi:type="dcterms:W3CDTF">2006-08-02T16:59:32Z</dcterms:modified>
  <cp:revision>7</cp:revision>
  <dc:subject/>
  <dc:title>Слайд 1</dc:title>
</cp:coreProperties>
</file>